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644-29C5-481E-9D4C-B373532D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6A0-C1C4-45AB-B6D4-2AC7A0CD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FD8-9F02-45A8-9B08-35805760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A512-8055-45E1-B758-8DBD7685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6A5D-7ABC-47F3-95AC-DDD7006D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6E61-7798-4736-83DD-11CCAB4C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36F4-CD18-4048-A6F3-FBD398F6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F75E-5ACA-4EF4-BC05-DAF3B4D6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D914-3159-46B6-A883-A09CA192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6A55-A7F2-42A0-BAED-6F188314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55BB-D63C-4352-9340-BBD9D96B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7B1-8D03-4B96-AAB8-BA1DCCCD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E8E6-BD09-4304-873C-D125E4D1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EB91-87B1-40DA-986F-171B4CEA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42A3-F368-4451-A335-51789162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0EBF-3008-4184-B6ED-D2B93773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EC69-B99B-47C0-A695-F05FA76A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4BF-73FF-4425-A10C-22EE1D8A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5D1-DF32-4769-9D63-E0CFDDF1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A9F-6EC1-4CE1-A98C-24F6E00E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DE6-693F-4B56-9794-784A7805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83F-D800-4E78-BFE4-858A2C06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202-9FC1-41A4-A089-F444BF68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2B0-73CE-4EFA-8DA2-5AC64226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C2F1-C23F-40D7-AF67-833AE26B9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1455-4D33-48D9-97FB-1F63D319F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ABC’s of First Aid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Aubr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600200" y="41148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r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1080" y="25905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airway is bloc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tly roll the person on his or her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e whole body at o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tly tilt the person’s head back and at the same time and lift up on the ch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23619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f the person is 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, if the person’s chest is rising and then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, for air moving out of the mouth an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, for exhaled air on your hand or ch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erson is not breathing do CP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162920" y="3808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7400" y="24382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victim’s carotid pulse on both sides of the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a pul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ntinue doing rescue breathing, until the person revi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n’t a pul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art must be stimulated by someone who is trained in CP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don’t see any of these signs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281916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9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533520" y="-1295280"/>
            <a:ext cx="10668240" cy="914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>
            <a:lum bright="-4000"/>
          </a:blip>
          <a:stretch/>
        </p:blipFill>
        <p:spPr>
          <a:xfrm flipH="1">
            <a:off x="990720" y="2438280"/>
            <a:ext cx="533376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6:51Z</dcterms:created>
  <dc:creator>Kraybill Campus LMS</dc:creator>
  <dc:description/>
  <dc:language>en-US</dc:language>
  <cp:lastModifiedBy>Kraybill Campus LMS</cp:lastModifiedBy>
  <dcterms:modified xsi:type="dcterms:W3CDTF">2011-05-26T15:56:40Z</dcterms:modified>
  <cp:revision>10</cp:revision>
  <dc:subject/>
  <dc:title>PowerPoint Presentation</dc:title>
</cp:coreProperties>
</file>